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225B-70F1-4E1A-A765-F66C6A2A3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ch 13, 2010 at Crowley High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ya Chia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FB19-3621-4C4A-B538-7BD846509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ld reverse the exchange to have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2A5D-9FA9-4216-B03B-0AA2DDF80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DF8-7843-4437-A8DB-C320A04E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A4B-ECAC-4BC9-91A2-FA5CAAA0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553-D535-4C92-9C32-B9877119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CEE-EE81-47AA-8654-BBC3525E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C642-A654-4DAD-8094-7D1B28F5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4D0D-1A30-41AE-BDBB-EEEB5BA9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D97A-37F1-45E0-9E6D-97ECBAFA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0E59-CC83-45C5-8C35-EC65B9C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B438-3DD0-4042-ABDB-E263C162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50B3-C5BA-4EAF-A86F-C02C8F9F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64F4-B556-40D9-B5EC-7B77887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205-5FF1-4A48-9B09-8937D2D8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EAFC-4262-47E1-A37C-D3F2DAAD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A5DF-8E93-448F-8F45-696FFE2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CC58-4E66-4C6A-AB4D-ED88F59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255D-7D3C-478C-A678-02893FDE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D787-5AFA-43AA-8BEB-7603623B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E63D-77B3-41F5-B8FB-21D6364E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2E38-81DA-4D8D-B208-734EA78E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76926-344C-410A-AC0D-C7918FC5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968B-67CD-47E3-B60A-98B42342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091A-80B6-40E7-8E1D-6829B87B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8E8-DC3A-4B73-88A9-51E2493F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4C7B-3013-40B5-8D1B-A7849E26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DC6D-78BA-4096-B8F6-AD95FBA6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9BA5-5D8E-48BB-8163-A0CA05A9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0918-02A5-4B2B-80BC-B8DE6A48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9318-83F0-4A8A-87E7-6314B642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6A4C-6D19-4A78-8BBB-51FCBCD6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E438-EDE6-46A8-A7EA-E19C1CAA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BB701-C893-4715-95A2-85010CB1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F4C4-2095-4BC2-9CC2-981051E8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2383-0A84-414D-97C5-F7243BA1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229-CAF3-4C4D-8981-B63134C9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DFA6-2A6E-40DB-827D-582A46A3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A41F-5312-43E4-944C-D1CA7DBD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35E6-F351-4855-B6A8-DF100571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FDE6-1F01-41B7-9623-216E98E6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CE09-DA9A-4635-9687-E197D65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8DCC-8027-4DB8-9454-7FB32D3F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D0141-B6EE-47AF-96D6-D5F77232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11278-427C-447A-835D-CC5E5E85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8B1A-4FB0-42C1-AF8A-1FE16985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AB09C-9A6D-47F1-BC90-2268C62D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3FF-4667-4E67-8531-D303E1D9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EC9A2-7817-445B-A039-33648FAE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2EEF-895D-403C-8F8C-97AAF92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5C740-E8D4-47D1-B97B-29105F5B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02A5E-D177-4F46-B075-87681978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79CF-0546-4587-8EA3-08A20FA6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DFD18-6CC0-431E-AF14-C510B4F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CAB4-F4EE-4F39-B238-E5D0EB8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FE94F-C86F-4933-A20B-338B4AC7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1674-13E2-466C-AD1D-8FF433EC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A11F2-0C7F-4B78-AB5C-D7D67D92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D21-76AA-49A0-B6A9-B4DC88B0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D5A9F-C403-4497-966D-51B368C7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2E6D-702C-455B-971B-5C0E9C50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2E404-7009-4BEC-87D7-9452F28F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D3AA-9FEE-4A3D-AE16-F50C6AA6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1E4C1-AC9F-48B3-8904-C7C1CD19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834F8-45A0-494B-84D1-CEA810AD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637E-5C2F-401A-ADED-5A1EE245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1D9CF-CD61-406D-958B-E16D21C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4D6AC-BECE-494B-9922-C93D71A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D3750-2A24-46B4-9AB1-2FA2882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320-957D-4F0A-8CD1-62CF561B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6C6F-5AD4-4FB5-BB1D-10CCABCD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1851D-6731-4563-ABBA-E3E7697F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D5618-1D1E-4D99-81CC-D30DF524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FAB48-03DB-4E1F-9E71-18F91F58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4AC82-1FFE-4566-9557-86B6AF17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FAB1-EE2D-4135-86B2-95CC6C28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5151-29E6-42FA-B919-77D900D0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FB9E2-69A0-4A34-BFB9-E164CC1F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5EE9D-1AFD-46C5-90F4-22587187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5B8F7-4D46-4EBF-BC9E-65083878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19F-A2B0-4252-AD7A-CAC06755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6E9B7-71AB-4387-8C8D-574C6A5B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2A6E2-FC6D-4A82-9E46-3E1102E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D0C5E-3FDC-4853-A1EE-16A0181D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CCBBC-BB4A-478B-8F6E-8795A549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E34EA-8F33-4F9F-AEFC-667E336D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58FF6-AB70-4671-BFC8-9293569D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3FA6-1809-48E3-B51C-EB0C4310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77DE8-AB93-4EFE-9085-22949860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4848A-9F9F-4344-B4BC-D6E1CD49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84E8E-A015-4CFE-8AD9-8A78D61D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0C3-0FDD-40AF-81FB-4E9E6C9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4BCA6-57E0-421F-A019-6B6B3BA9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3EF14-0B07-46FB-92A1-9CCBA2EA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C2D2B-D01A-460F-809C-381C9BC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25D73-D517-4D1F-83C7-1C8B2840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0C692-B86C-49DD-9E2E-BA778C9A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57A6D-1F0D-4E3C-90CC-FAC90851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E7028-5170-4287-8963-15842D9E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A645-D708-4DBE-B644-8FD3A25130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0E40-309A-4E5B-88BA-453E6BA76D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9190-FE70-479A-82EC-751BF3806F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6696-6905-46FF-BAD0-EFBE2F97A3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9177-53EB-4D60-AB1A-8516306A73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8B34-7267-475A-9655-ECBAFD2C28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F2A4-4471-490F-9704-907D91F87E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A537-8447-4F64-8288-E27EF84F70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12onlineconference.org/?p=481" TargetMode="External"/><Relationship Id="rId2" Type="http://schemas.openxmlformats.org/officeDocument/2006/relationships/hyperlink" Target="http://aroundtheworldwith80schools.wikispaces.com/" TargetMode="External"/><Relationship Id="rId3" Type="http://schemas.openxmlformats.org/officeDocument/2006/relationships/hyperlink" Target="http://onlineproj4tchrs.ning.com/" TargetMode="External"/><Relationship Id="rId4" Type="http://schemas.openxmlformats.org/officeDocument/2006/relationships/hyperlink" Target="http://skypeforeducators.com/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kype.com/" TargetMode="External"/><Relationship Id="rId2" Type="http://schemas.openxmlformats.org/officeDocument/2006/relationships/hyperlink" Target="http://www.blogger.com/" TargetMode="External"/><Relationship Id="rId3" Type="http://schemas.openxmlformats.org/officeDocument/2006/relationships/hyperlink" Target="http://www.speakingofliterature.blogspot.com/" TargetMode="External"/><Relationship Id="rId4" Type="http://schemas.openxmlformats.org/officeDocument/2006/relationships/hyperlink" Target="http://www.intel.com/education/tools/index.htm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15960" y="1749600"/>
            <a:ext cx="83390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8098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Tanya Chiasson, St. Piu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Gayle Dauterive, Fatim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2010 Region IV Mini-LACUE Confer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l’s Visual Ranking T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rcRect l="1249" t="19001" r="40001" b="21000"/>
          <a:stretch/>
        </p:blipFill>
        <p:spPr>
          <a:xfrm>
            <a:off x="685800" y="190512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discussion board, Ning, wiki, Google Docs, or email to exchang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another video conferencing software like Windows Live or VoiceThread that may not be block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 quiet students participate through a chat inste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ked being able to see, hear, and textually communica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derstood the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hared what they did with oth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nted to Skype and blog ag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DSCN0899.JPG"/>
          <p:cNvPicPr/>
          <p:nvPr/>
        </p:nvPicPr>
        <p:blipFill>
          <a:blip r:embed="rId2"/>
          <a:srcRect l="0" t="0" r="0" b="15683"/>
          <a:stretch/>
        </p:blipFill>
        <p:spPr>
          <a:xfrm>
            <a:off x="4572000" y="3886200"/>
            <a:ext cx="4248000" cy="2685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DSCN0900.JPG"/>
          <p:cNvPicPr/>
          <p:nvPr/>
        </p:nvPicPr>
        <p:blipFill>
          <a:blip r:embed="rId3"/>
          <a:srcRect l="0" t="8756" r="0" b="0"/>
          <a:stretch/>
        </p:blipFill>
        <p:spPr>
          <a:xfrm>
            <a:off x="304920" y="3849840"/>
            <a:ext cx="40622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5" descr="DSCN0869.JPG"/>
          <p:cNvPicPr/>
          <p:nvPr/>
        </p:nvPicPr>
        <p:blipFill>
          <a:blip r:embed="rId2"/>
          <a:srcRect l="4270" t="11701" r="27367" b="19946"/>
          <a:stretch/>
        </p:blipFill>
        <p:spPr>
          <a:xfrm>
            <a:off x="228600" y="169560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SCN0863.JPG"/>
          <p:cNvPicPr/>
          <p:nvPr/>
        </p:nvPicPr>
        <p:blipFill>
          <a:blip r:embed="rId3"/>
          <a:srcRect l="14194" t="0" r="15582" b="14186"/>
          <a:stretch/>
        </p:blipFill>
        <p:spPr>
          <a:xfrm>
            <a:off x="6400800" y="2438280"/>
            <a:ext cx="2514600" cy="2305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SCN0870.JPG"/>
          <p:cNvPicPr/>
          <p:nvPr/>
        </p:nvPicPr>
        <p:blipFill>
          <a:blip r:embed="rId4"/>
          <a:srcRect l="6208" t="0" r="11008" b="22737"/>
          <a:stretch/>
        </p:blipFill>
        <p:spPr>
          <a:xfrm>
            <a:off x="3048120" y="14479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DSCN0872.JPG"/>
          <p:cNvPicPr/>
          <p:nvPr/>
        </p:nvPicPr>
        <p:blipFill>
          <a:blip r:embed="rId5"/>
          <a:srcRect l="16082" t="14300" r="0" b="0"/>
          <a:stretch/>
        </p:blipFill>
        <p:spPr>
          <a:xfrm>
            <a:off x="6377040" y="341280"/>
            <a:ext cx="2538360" cy="1944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DSCN0876.JPG"/>
          <p:cNvPicPr/>
          <p:nvPr/>
        </p:nvPicPr>
        <p:blipFill>
          <a:blip r:embed="rId6"/>
          <a:stretch/>
        </p:blipFill>
        <p:spPr>
          <a:xfrm>
            <a:off x="3048120" y="3886200"/>
            <a:ext cx="3071520" cy="2305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3" descr="DSCN0889.JPG"/>
          <p:cNvPicPr/>
          <p:nvPr/>
        </p:nvPicPr>
        <p:blipFill>
          <a:blip r:embed="rId7"/>
          <a:srcRect l="3222" t="9683" r="16935" b="9683"/>
          <a:stretch/>
        </p:blipFill>
        <p:spPr>
          <a:xfrm>
            <a:off x="6400800" y="495288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4" descr="DSCN0894.JPG"/>
          <p:cNvPicPr/>
          <p:nvPr/>
        </p:nvPicPr>
        <p:blipFill>
          <a:blip r:embed="rId8"/>
          <a:stretch/>
        </p:blipFill>
        <p:spPr>
          <a:xfrm>
            <a:off x="228600" y="3886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urces from Around the World in 80 Days </a:t>
            </a: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k12onlineconference.org/?p=481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round the World with 80 Schools </a:t>
            </a: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aroundtheworldwith80schools.wikispaces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nline Projects4Teachers Ning </a:t>
            </a: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onlineproj4tchrs.ning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ype for Educators </a:t>
            </a: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skypeforeducators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ype with Other Classroom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edublogger.edublog.org/want-to-connect-with-other-classroom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ype in an Author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skypeanauthor.wetpaint.com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duSkypers Phonebook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skypeintheclassroom.wordpress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yp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skypeinschools.pbworks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ent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ndout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chiassonenglish.wikispaces.com/Handout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ya Chiasson, St. Pius Elementa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anya_chiasson@stpiuselementary.or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anya_chiasson@hotmail.co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yle Dauterive, Our Lady of Fati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dauterive@olf.co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me is an abstract concept that is hard for students to gras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 peers to make the abstract concret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classes rea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he Outsider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S. E. Hint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hange concrete details, real world examples, and opinions about given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 asynchronous and synchronous exchan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onda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rodu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at we expected each group to do (sample post, parts of a response, how to respon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parts of a blog screen and cyber safety issu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imeline for completion (Tues.-Thurs. blog posting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uesday-Thursda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pen for troubleshoo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rida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el Visual Ranking Tool group activ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tudent-led round table discussion of activity, process, and produ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oodby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5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230040" y="1371600"/>
            <a:ext cx="8761680" cy="5251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3"/>
          <a:srcRect l="0" t="0" r="63681" b="65385"/>
          <a:stretch/>
        </p:blipFill>
        <p:spPr>
          <a:xfrm>
            <a:off x="4572000" y="228600"/>
            <a:ext cx="26305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ver use full name or school nam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ver give out personal information (phone number, address, IM, Facebook, MySpace information, etc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 with grou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el everythin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ppropriate respons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ffir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to disagre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rcRect l="19376" t="15000" r="20625" b="7998"/>
          <a:stretch/>
        </p:blipFill>
        <p:spPr>
          <a:xfrm>
            <a:off x="4535640" y="3124080"/>
            <a:ext cx="423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75248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ent moderation is key to keeping unwanted comments out of the blo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eration means that the comments will need to be approved (read and allowed) before the post will appear on the s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2"/>
          <a:srcRect l="20536" t="24519" r="21590" b="40129"/>
          <a:stretch/>
        </p:blipFill>
        <p:spPr>
          <a:xfrm>
            <a:off x="3962520" y="152280"/>
            <a:ext cx="4190760" cy="1600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3"/>
          <a:srcRect l="933" t="40851" r="1249" b="15000"/>
          <a:stretch/>
        </p:blipFill>
        <p:spPr>
          <a:xfrm>
            <a:off x="533520" y="4267080"/>
            <a:ext cx="8001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ssign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, you will exchange concrete details found in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he Outsider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support your theme through blog posts and comments. Two different concrete details must be submitted (one from each group). Secondly, you will exchange personal or general real-world examples illustrating the theme in today's society. Again the ideas must differ. Finally, you will exchange support for and disagreement with Hinton's mess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068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kype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kype.co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gger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blogger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rs. Chiasson’s Blog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peakingofliterature.blogspot.co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l’s Visual Ranking Tool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intel.com/education/tools/index.ht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41:54Z</dcterms:created>
  <dc:creator>Tanya_Chiasson</dc:creator>
  <dc:description/>
  <dc:language>en-US</dc:language>
  <cp:lastModifiedBy>Tanya_Chiasson</cp:lastModifiedBy>
  <dcterms:modified xsi:type="dcterms:W3CDTF">2010-03-13T14:36:24Z</dcterms:modified>
  <cp:revision>25</cp:revision>
  <dc:subject/>
  <dc:title>Skype and Blog through Literary Themes</dc:title>
</cp:coreProperties>
</file>